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2B5-0168-4D8E-8B38-E31698DB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DBC-D606-4023-B106-D5C4D14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291-F336-4E65-8411-8DB8481C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90E-5FD7-4D91-8607-8B028A97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1CC-FED0-41E9-8876-A23AA7A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52A-4FCB-4E5F-B214-CFE4E39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697-3A29-4A71-BF48-3243592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0DD-D079-4910-A711-F8B2DE2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CF7-35B6-47C1-8EE9-E18F378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454-B61E-4DB3-8C0B-9241200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453-2F1A-4097-BAF6-EF14E0F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9D-E3C3-41C0-A025-6FD42AF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8043-BB60-4402-BCC0-926E6710A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se Case Dia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s what the main functionality of the syste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cares for the system’s expected behavior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a role played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ece of hard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ors may be both at input and output ends of a use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84320" y="4952880"/>
            <a:ext cx="4583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all the services required or performed by the a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3733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librarian, the assistant librarian and the cli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add books, delete books, add clients, delete clients, list books, list clients,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ssistant librarian 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 may only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 -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user c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librari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y only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43000" y="819000"/>
            <a:ext cx="5058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use case diagram for an online travel agency system. A new user can create a new profile with a username and a password. This profile can be changed at any time if the user wants. The user logs to the system using his/he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logging into the system, the user inquires about different flights. The user can book, change or cancel a flight reservation. This includes choosing a payment method, and making a pay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2:45Z</dcterms:created>
  <dc:creator>Soha</dc:creator>
  <dc:description/>
  <dc:language>en-US</dc:language>
  <cp:lastModifiedBy>Soha</cp:lastModifiedBy>
  <dcterms:modified xsi:type="dcterms:W3CDTF">2009-04-07T09:27:34Z</dcterms:modified>
  <cp:revision>6</cp:revision>
  <dc:subject/>
  <dc:title>Use Case Diagrams</dc:title>
</cp:coreProperties>
</file>